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E26A-FD64-457D-A69C-944FD95F8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55F9-F351-43C2-810B-329CCB21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DED7-6537-48A8-8EE7-B258C98F6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81D3-762A-4FEB-9751-45EA3EAFA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5EFA-1F3C-4B20-9AE6-F1F87414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8943-9A31-439C-BFED-0A802B2A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BFBC-3658-44BD-8EAC-DEB28B11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A394-BA69-45BF-B8DE-5BD5C16D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5BD9-597C-4AD1-B4AF-77B00A8B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0B96-8AE2-48C1-91C7-95BBA97A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726E-857C-44C5-A589-6EBD0EEC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ECE5-9E67-43C6-8A3E-BE5CC4D8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FC7F-30BA-4860-ABB0-CA0A77E6F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6480360" cy="2737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203640" y="1341360"/>
            <a:ext cx="2570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284720" y="3860640"/>
            <a:ext cx="2188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Б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796000" y="2637000"/>
            <a:ext cx="1904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Р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012000" y="2637000"/>
            <a:ext cx="215640" cy="34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0" y="3860640"/>
            <a:ext cx="216000" cy="3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564000" y="1341360"/>
            <a:ext cx="216000" cy="3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2000" fill="hold"/>
                                        <p:tgtEl>
                                          <p:spTgt spid="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11:42:54Z</dcterms:created>
  <dc:creator>Sergey</dc:creator>
  <dc:description/>
  <dc:language>en-US</dc:language>
  <cp:lastModifiedBy>Sergey</cp:lastModifiedBy>
  <dcterms:modified xsi:type="dcterms:W3CDTF">2012-02-05T12:51:34Z</dcterms:modified>
  <cp:revision>2</cp:revision>
  <dc:subject/>
  <dc:title>Слайд 1</dc:title>
</cp:coreProperties>
</file>